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ipdn102.wav" ContentType="audio/x-wav"/>
  <Override PartName="/ppt/media/zapbig0g.wav" ContentType="audio/x-wav"/>
  <Override PartName="/ppt/media/highchime.wav" ContentType="audio/x-wav"/>
  <Override PartName="/ppt/media/helicopter.wav" ContentType="audio/x-wav"/>
  <Override PartName="/ppt/media/jetflyby2.wav" ContentType="audio/x-wav"/>
  <Override PartName="/ppt/media/bserie06.wav" ContentType="audio/x-wav"/>
  <Override PartName="/ppt/media/fastca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1AA-9DB2-4B2C-8256-B7E8A554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29C-D636-441D-BA1E-AF5AD4EF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EA2-7C55-490A-A90D-86214B32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BE8-0035-49EC-BE77-90C78BD2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CE7-BFD0-4BEA-980A-9B98321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B37-4F2E-440F-8648-A657FFBB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8CB-A93F-4AB5-8E19-36D037F3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6C4-206D-464C-B56C-C2FBBF0D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82F-5115-4B49-B3CC-AA64622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1F4-1880-4F25-9528-74EE4393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738-1AFE-4308-B6E8-FF4075F1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468-0E04-4938-A9AA-C44A803B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19E4-B405-40A0-B481-4E458C108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ipdn102.wav"/><Relationship Id="rId3" Type="http://schemas.openxmlformats.org/officeDocument/2006/relationships/audio" Target="../media/highchime.wav"/><Relationship Id="rId4" Type="http://schemas.openxmlformats.org/officeDocument/2006/relationships/audio" Target="../media/helicopter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zapbig0g.wav"/><Relationship Id="rId25" Type="http://schemas.openxmlformats.org/officeDocument/2006/relationships/audio" Target="../media/fastcar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helicopter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zapbig0g.wav"/><Relationship Id="rId24" Type="http://schemas.openxmlformats.org/officeDocument/2006/relationships/audio" Target="../media/fastcar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helicopter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jetflyby2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zapbig0g.wav"/><Relationship Id="rId22" Type="http://schemas.openxmlformats.org/officeDocument/2006/relationships/audio" Target="../media/bserie06.wav"/><Relationship Id="rId23" Type="http://schemas.openxmlformats.org/officeDocument/2006/relationships/audio" Target="../media/jetflyby2.wav"/><Relationship Id="rId24" Type="http://schemas.openxmlformats.org/officeDocument/2006/relationships/audio" Target="../media/zapbig0g.wav"/><Relationship Id="rId25" Type="http://schemas.openxmlformats.org/officeDocument/2006/relationships/audio" Target="../media/bserie06.wav"/><Relationship Id="rId26" Type="http://schemas.openxmlformats.org/officeDocument/2006/relationships/audio" Target="../media/jetflyby2.wav"/><Relationship Id="rId27" Type="http://schemas.openxmlformats.org/officeDocument/2006/relationships/audio" Target="../media/zapbig0g.wav"/><Relationship Id="rId28" Type="http://schemas.openxmlformats.org/officeDocument/2006/relationships/audio" Target="../media/fastcar.wav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helicopter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jetflyby2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zapbig0g.wav"/><Relationship Id="rId24" Type="http://schemas.openxmlformats.org/officeDocument/2006/relationships/audio" Target="../media/fastcar.wav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each eq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81360" y="1828800"/>
            <a:ext cx="4562280" cy="4406400"/>
            <a:chOff x="4581360" y="1828800"/>
            <a:chExt cx="4562280" cy="4406400"/>
          </a:xfrm>
        </p:grpSpPr>
        <p:grpSp>
          <p:nvGrpSpPr>
            <p:cNvPr id="44" name=""/>
            <p:cNvGrpSpPr/>
            <p:nvPr/>
          </p:nvGrpSpPr>
          <p:grpSpPr>
            <a:xfrm>
              <a:off x="4592160" y="1992600"/>
              <a:ext cx="4392720" cy="4223880"/>
              <a:chOff x="4592160" y="1992600"/>
              <a:chExt cx="4392720" cy="4223880"/>
            </a:xfrm>
          </p:grpSpPr>
          <p:sp>
            <p:nvSpPr>
              <p:cNvPr id="45" name=""/>
              <p:cNvSpPr/>
              <p:nvPr/>
            </p:nvSpPr>
            <p:spPr>
              <a:xfrm>
                <a:off x="8710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4358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612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8652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12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33752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62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8816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513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39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96448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690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415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408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866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92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10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4358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612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8652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12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3752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062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8816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513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39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6448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690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415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408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866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592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10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358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612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8652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12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3752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62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816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513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239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6448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690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15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408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66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92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10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4358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12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8652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2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3752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062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8816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13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39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6448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690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15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408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66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92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10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4358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612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88652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12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33752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62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8816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13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9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6448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690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415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408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66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92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710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4358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612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8652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12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3752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62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8816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13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39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6448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90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5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408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66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92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710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4358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1612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652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12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3752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62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78816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13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39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6448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90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415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408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66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92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10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4358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612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8652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12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3752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62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8816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13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239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6448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90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415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408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66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92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10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358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1612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8652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612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3752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062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78816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513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39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96448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90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15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408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66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92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710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4358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1612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88652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12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3752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62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8816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13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39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96448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90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15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408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66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92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710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358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1612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8652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612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33752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062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816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13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239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6448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90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15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408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66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2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710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358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612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88652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12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33752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62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8816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513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39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6448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690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15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408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66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92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710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358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612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8652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12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3752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062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8816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13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9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448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90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15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408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66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92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710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4358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1612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8652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12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3752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62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8816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13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39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6448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690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5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408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66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92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710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4358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1612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88652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612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3752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62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8816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13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39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96448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90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15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408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66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92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710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358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1612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8652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12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3752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62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8816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13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39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6448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90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15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1408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66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92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92160" y="22546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92160" y="25167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92160" y="2806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92160" y="30690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592160" y="3331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92160" y="3593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92160" y="38559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92160" y="4118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92160" y="43801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92160" y="4642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92160" y="49046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92160" y="5167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92160" y="5429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92160" y="56916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2160" y="5954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66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408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15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690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64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39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13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8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62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37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612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86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161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4358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10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92160" y="199260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9216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98488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92160" y="621648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4581360" y="4126320"/>
              <a:ext cx="443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781680" y="1993680"/>
              <a:ext cx="0" cy="42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680680" y="3726000"/>
              <a:ext cx="46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94280" y="1828800"/>
              <a:ext cx="4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95200" y="1149480"/>
                <a:ext cx="28018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6140520" y="430056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3880" y="2014560"/>
          <a:ext cx="2298600" cy="4086360"/>
        </p:xfrm>
        <a:graphic>
          <a:graphicData uri="http://schemas.openxmlformats.org/drawingml/2006/table">
            <a:tbl>
              <a:tblPr/>
              <a:tblGrid>
                <a:gridCol w="1149480"/>
                <a:gridCol w="11491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817560" y="2773440"/>
                <a:ext cx="857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063800" y="410040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114560" y="47894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82720" y="3414600"/>
                <a:ext cx="735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047600" y="5446800"/>
                <a:ext cx="447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87640" y="2770200"/>
                <a:ext cx="1552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984320" y="2793960"/>
                <a:ext cx="733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6424560" y="4046400"/>
            <a:ext cx="160560" cy="160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3021120" y="3430440"/>
                <a:ext cx="14716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139840" y="3433680"/>
                <a:ext cx="40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6700680" y="375768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186000" y="4124160"/>
                <a:ext cx="11448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166840" y="412272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6975360" y="349416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218040" y="4794120"/>
                <a:ext cx="10206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90880" y="4818240"/>
                <a:ext cx="449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7250040" y="324972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168720" y="5477040"/>
                <a:ext cx="11444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139840" y="5467320"/>
                <a:ext cx="406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 flipV="1">
            <a:off x="4529160" y="1884240"/>
            <a:ext cx="4282920" cy="41529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each eq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581360" y="1828800"/>
            <a:ext cx="4562280" cy="4406400"/>
            <a:chOff x="4581360" y="1828800"/>
            <a:chExt cx="4562280" cy="4406400"/>
          </a:xfrm>
        </p:grpSpPr>
        <p:grpSp>
          <p:nvGrpSpPr>
            <p:cNvPr id="365" name=""/>
            <p:cNvGrpSpPr/>
            <p:nvPr/>
          </p:nvGrpSpPr>
          <p:grpSpPr>
            <a:xfrm>
              <a:off x="4592160" y="1992600"/>
              <a:ext cx="4392720" cy="4223880"/>
              <a:chOff x="4592160" y="1992600"/>
              <a:chExt cx="4392720" cy="4223880"/>
            </a:xfrm>
          </p:grpSpPr>
          <p:sp>
            <p:nvSpPr>
              <p:cNvPr id="366" name=""/>
              <p:cNvSpPr/>
              <p:nvPr/>
            </p:nvSpPr>
            <p:spPr>
              <a:xfrm>
                <a:off x="8710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358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612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8652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12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3752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62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8816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513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39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6448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90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415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408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6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92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710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4358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1612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88652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612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3752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062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8816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13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39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96448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690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415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1408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66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92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710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4358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1612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88652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12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3752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62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8816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13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39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6448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690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415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408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66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92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710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4358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1612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88652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612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3752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62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8816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513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239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96448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0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15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408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866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92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710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4358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612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8652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12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33752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062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78816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13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239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6448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90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15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408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6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92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710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358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1612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88652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12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33752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62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78816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13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39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6448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90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5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408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66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92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710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4358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1612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88652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612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3752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62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78816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513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39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6448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0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415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408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866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2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710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4358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1612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88652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612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33752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62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8816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513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39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96448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690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15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408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66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2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710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4358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1612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8652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12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3752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2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8816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13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39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96448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90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15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408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866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2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710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4358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1612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8652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612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3752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62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8816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513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39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96448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690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15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1408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866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92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710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4358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1612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88652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12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3752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62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8816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513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39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6448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90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15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1408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66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92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710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4358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1612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88652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612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3752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2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78816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13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239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6448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690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15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1408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866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92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10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4358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12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88652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612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3752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62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8816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3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39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6448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690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15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408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866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92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10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4358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1612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8652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612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3752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62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78816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13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39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96448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690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15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1408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66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92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710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4358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1612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8652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612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33752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062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78816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513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39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6448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690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5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408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66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92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710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4358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1612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8652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612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33752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062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78816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513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39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6448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90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5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1408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66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592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92160" y="22546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92160" y="25167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592160" y="2806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592160" y="30690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592160" y="3331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592160" y="3593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592160" y="38559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92160" y="4118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592160" y="43801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2160" y="4642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592160" y="49046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92160" y="5167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592160" y="5429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592160" y="56916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592160" y="5954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866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1408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15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90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64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39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513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788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062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337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612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886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161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4358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10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592160" y="199260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9216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8488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592160" y="621648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4581360" y="4126320"/>
              <a:ext cx="443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781680" y="1993680"/>
              <a:ext cx="0" cy="42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80680" y="3726000"/>
              <a:ext cx="46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4280" y="1828800"/>
              <a:ext cx="4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17520" y="1149480"/>
                <a:ext cx="2755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6153120" y="298764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623880" y="2014560"/>
          <a:ext cx="2298600" cy="4086360"/>
        </p:xfrm>
        <a:graphic>
          <a:graphicData uri="http://schemas.openxmlformats.org/drawingml/2006/table">
            <a:tbl>
              <a:tblPr/>
              <a:tblGrid>
                <a:gridCol w="1149480"/>
                <a:gridCol w="11491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817560" y="2773440"/>
                <a:ext cx="857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063800" y="410040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114560" y="47894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882720" y="3414600"/>
                <a:ext cx="735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1047600" y="5446800"/>
                <a:ext cx="447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2943360" y="2790720"/>
                <a:ext cx="16509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127240" y="2793960"/>
                <a:ext cx="4478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6424560" y="351648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119320" y="3454560"/>
                <a:ext cx="449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702480" y="403560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125800" y="4102200"/>
                <a:ext cx="407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"/>
          <p:cNvSpPr/>
          <p:nvPr/>
        </p:nvSpPr>
        <p:spPr>
          <a:xfrm>
            <a:off x="6975360" y="456732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886040" y="4818240"/>
                <a:ext cx="858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7250040" y="507852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889280" y="5486400"/>
                <a:ext cx="8524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5632560" y="1919160"/>
            <a:ext cx="2322360" cy="4421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003480" y="3436920"/>
                <a:ext cx="1546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78000" y="4141800"/>
                <a:ext cx="1265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103560" y="4816440"/>
                <a:ext cx="1193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059280" y="5492880"/>
                <a:ext cx="129852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each eq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581360" y="1828800"/>
            <a:ext cx="4562280" cy="4406400"/>
            <a:chOff x="4581360" y="1828800"/>
            <a:chExt cx="4562280" cy="4406400"/>
          </a:xfrm>
        </p:grpSpPr>
        <p:grpSp>
          <p:nvGrpSpPr>
            <p:cNvPr id="686" name=""/>
            <p:cNvGrpSpPr/>
            <p:nvPr/>
          </p:nvGrpSpPr>
          <p:grpSpPr>
            <a:xfrm>
              <a:off x="4592160" y="1992600"/>
              <a:ext cx="4392720" cy="4223880"/>
              <a:chOff x="4592160" y="1992600"/>
              <a:chExt cx="4392720" cy="4223880"/>
            </a:xfrm>
          </p:grpSpPr>
          <p:sp>
            <p:nvSpPr>
              <p:cNvPr id="687" name=""/>
              <p:cNvSpPr/>
              <p:nvPr/>
            </p:nvSpPr>
            <p:spPr>
              <a:xfrm>
                <a:off x="8710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358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1612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8652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12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3752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62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8816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513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239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6448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90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15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1408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866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592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710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4358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1612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88652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612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3752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62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78816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513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239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6448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690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15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1408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66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92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710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358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1612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88652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12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33752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62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78816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13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239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96448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690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15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1408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866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592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710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4358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1612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8652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12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3752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062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78816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513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239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96448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90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15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408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866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592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710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4358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1612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88652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12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3752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062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78816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513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239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96448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90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415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1408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66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592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710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4358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1612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8652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12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33752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062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78816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13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39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96448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690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415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408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866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592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710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4358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1612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88652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12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33752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062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78816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513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239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96448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690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415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1408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866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592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710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4358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1612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8652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12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33752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062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78816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513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39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96448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90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15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1408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866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592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710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4358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1612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88652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12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33752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062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78816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513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239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96448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690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415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1408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866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2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710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4358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1612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88652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12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33752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62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8816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513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39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96448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90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15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1408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866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92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710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4358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1612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88652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12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33752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62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8816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513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239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96448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90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415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08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66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592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710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4358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612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88652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12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3752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62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78816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513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239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96448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690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15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1408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866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592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710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4358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1612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8652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12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33752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62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78816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513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239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96448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90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1408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866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92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710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4358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1612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88652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12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3752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62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78816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513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239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96448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690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415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408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866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592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10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358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1612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8652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12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33752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062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78816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513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239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96448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90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415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408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866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92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710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4358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1612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88652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12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33752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62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78816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513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39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96448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90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415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1408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66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592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592160" y="22546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592160" y="25167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592160" y="2806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592160" y="30690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592160" y="3331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592160" y="3593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592160" y="38559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592160" y="4118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592160" y="43801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592160" y="4642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592160" y="49046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92160" y="5167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592160" y="5429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592160" y="56916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592160" y="5954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866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1408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415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690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964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239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13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88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062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337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612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86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161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4358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710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592160" y="199260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59216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98488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592160" y="621648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"/>
            <p:cNvSpPr/>
            <p:nvPr/>
          </p:nvSpPr>
          <p:spPr>
            <a:xfrm>
              <a:off x="4581360" y="4126320"/>
              <a:ext cx="443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6781680" y="1993680"/>
              <a:ext cx="0" cy="42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680680" y="3726000"/>
              <a:ext cx="46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794280" y="1828800"/>
              <a:ext cx="4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225360" y="1149480"/>
                <a:ext cx="29401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2" name=""/>
          <p:cNvSpPr/>
          <p:nvPr/>
        </p:nvSpPr>
        <p:spPr>
          <a:xfrm>
            <a:off x="6153120" y="243216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623880" y="2014560"/>
          <a:ext cx="2298600" cy="4086360"/>
        </p:xfrm>
        <a:graphic>
          <a:graphicData uri="http://schemas.openxmlformats.org/drawingml/2006/table">
            <a:tbl>
              <a:tblPr/>
              <a:tblGrid>
                <a:gridCol w="1149480"/>
                <a:gridCol w="11491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817560" y="2773440"/>
                <a:ext cx="857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1063800" y="410040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1114560" y="47894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882720" y="3414600"/>
                <a:ext cx="735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1047600" y="5446800"/>
                <a:ext cx="447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2908440" y="2790720"/>
                <a:ext cx="17208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2146320" y="277488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1" name=""/>
          <p:cNvSpPr/>
          <p:nvPr/>
        </p:nvSpPr>
        <p:spPr>
          <a:xfrm>
            <a:off x="6438960" y="271944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2139840" y="3433680"/>
                <a:ext cx="40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3" name=""/>
          <p:cNvSpPr/>
          <p:nvPr/>
        </p:nvSpPr>
        <p:spPr>
          <a:xfrm>
            <a:off x="6702480" y="297504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104920" y="4122720"/>
                <a:ext cx="449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5" name=""/>
          <p:cNvSpPr/>
          <p:nvPr/>
        </p:nvSpPr>
        <p:spPr>
          <a:xfrm>
            <a:off x="6975360" y="324180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111400" y="479916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7250040" y="350208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2090880" y="5486400"/>
                <a:ext cx="4474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"/>
          <p:cNvSpPr/>
          <p:nvPr/>
        </p:nvSpPr>
        <p:spPr>
          <a:xfrm>
            <a:off x="5629320" y="1919160"/>
            <a:ext cx="3341520" cy="3256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2951280" y="3436920"/>
                <a:ext cx="16509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3025800" y="4141800"/>
                <a:ext cx="1370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3068640" y="4816440"/>
                <a:ext cx="12636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3024360" y="5492880"/>
                <a:ext cx="13683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3230640" y="2908440"/>
                <a:ext cx="4204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747960" y="2901960"/>
                <a:ext cx="420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276720" y="3538440"/>
                <a:ext cx="420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3794040" y="3544920"/>
                <a:ext cx="4208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3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 – 4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684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Graph each eq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4581360" y="1828800"/>
            <a:ext cx="4562280" cy="4406400"/>
            <a:chOff x="4581360" y="1828800"/>
            <a:chExt cx="4562280" cy="4406400"/>
          </a:xfrm>
        </p:grpSpPr>
        <p:grpSp>
          <p:nvGrpSpPr>
            <p:cNvPr id="1011" name=""/>
            <p:cNvGrpSpPr/>
            <p:nvPr/>
          </p:nvGrpSpPr>
          <p:grpSpPr>
            <a:xfrm>
              <a:off x="4592160" y="1992600"/>
              <a:ext cx="4392720" cy="4223880"/>
              <a:chOff x="4592160" y="1992600"/>
              <a:chExt cx="4392720" cy="4223880"/>
            </a:xfrm>
          </p:grpSpPr>
          <p:sp>
            <p:nvSpPr>
              <p:cNvPr id="1012" name=""/>
              <p:cNvSpPr/>
              <p:nvPr/>
            </p:nvSpPr>
            <p:spPr>
              <a:xfrm>
                <a:off x="8710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4358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612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88652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1220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33752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062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78816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51384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239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96448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690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15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140800" y="5954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6648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592160" y="5954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710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4358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1612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88652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1220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33752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62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78816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1384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39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96448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690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415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40800" y="5691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86648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592160" y="5691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710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4358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1612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88652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1220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33752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062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78816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51384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239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96448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690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15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40800" y="542952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648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92160" y="542952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710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4358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1612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88652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1220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33752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62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78816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51384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239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96448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90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15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140800" y="5167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86648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92160" y="5167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710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4358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1612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88652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1220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33752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062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78816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51384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39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96448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690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415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40800" y="49046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6648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92160" y="49046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710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4358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1612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88652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1220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33752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062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8816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51384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239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96448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90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415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140800" y="46425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86648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592160" y="46425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710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4358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1612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88652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1220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3752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062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8816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51384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39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96448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690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415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40800" y="43801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86648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592160" y="43801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710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4358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1612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88652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1220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33752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062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78816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51384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39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96448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690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415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140800" y="411804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648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592160" y="411804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710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4358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1612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8652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1220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33752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62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78816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51384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239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6448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690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415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40800" y="385596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6648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592160" y="385596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10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4358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1612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88652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1220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33752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062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78816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51384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239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6448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690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415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140800" y="359352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86648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592160" y="359352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710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4358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612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88652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1220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33752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062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78816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1384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239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96448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690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415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40800" y="333108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86648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592160" y="333108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710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4358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1612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88652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1220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33752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062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78816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51384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39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96448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690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415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140800" y="306900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6648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592160" y="306900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710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4358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1612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88652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1220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3752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2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78816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51384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239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96448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690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415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140800" y="280656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648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592160" y="280656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710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4358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1612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88652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1220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33752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062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78816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51384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239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96448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690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415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140800" y="2516760"/>
                <a:ext cx="27468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86648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92160" y="2516760"/>
                <a:ext cx="274320" cy="28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710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4358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612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88652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61220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33752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062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78816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51384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239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96448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690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415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140800" y="2254680"/>
                <a:ext cx="2746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86648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592160" y="2254680"/>
                <a:ext cx="27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710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4358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1612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88652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1220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33752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062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78816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1384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239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96448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690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15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140800" y="1992600"/>
                <a:ext cx="27468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86648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592160" y="1992600"/>
                <a:ext cx="274320" cy="2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592160" y="22546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592160" y="25167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592160" y="2806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592160" y="30690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592160" y="3331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592160" y="3593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592160" y="38559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592160" y="4118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592160" y="43801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592160" y="464256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592160" y="49046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592160" y="516708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592160" y="542952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592160" y="569160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592160" y="5954040"/>
                <a:ext cx="4392720" cy="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866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1408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415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690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9644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239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513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78816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06284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337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12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88652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161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43588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710200" y="1992600"/>
                <a:ext cx="0" cy="4223880"/>
              </a:xfrm>
              <a:prstGeom prst="line">
                <a:avLst/>
              </a:prstGeom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592160" y="199260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59216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984880" y="1992600"/>
                <a:ext cx="0" cy="422388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592160" y="6216480"/>
                <a:ext cx="4392720" cy="0"/>
              </a:xfrm>
              <a:prstGeom prst="line">
                <a:avLst/>
              </a:prstGeom>
              <a:ln cap="sq"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2" name=""/>
            <p:cNvSpPr/>
            <p:nvPr/>
          </p:nvSpPr>
          <p:spPr>
            <a:xfrm>
              <a:off x="4581360" y="4126320"/>
              <a:ext cx="443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6781680" y="1993680"/>
              <a:ext cx="0" cy="42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680680" y="3726000"/>
              <a:ext cx="46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94280" y="1828800"/>
              <a:ext cx="4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217440" y="1177920"/>
                <a:ext cx="33069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7" name=""/>
          <p:cNvSpPr/>
          <p:nvPr/>
        </p:nvSpPr>
        <p:spPr>
          <a:xfrm>
            <a:off x="6151680" y="455148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8" name=""/>
          <p:cNvGraphicFramePr/>
          <p:nvPr/>
        </p:nvGraphicFramePr>
        <p:xfrm>
          <a:off x="623880" y="2014560"/>
          <a:ext cx="2298600" cy="4086360"/>
        </p:xfrm>
        <a:graphic>
          <a:graphicData uri="http://schemas.openxmlformats.org/drawingml/2006/table">
            <a:tbl>
              <a:tblPr/>
              <a:tblGrid>
                <a:gridCol w="1149480"/>
                <a:gridCol w="11491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817560" y="2773440"/>
                <a:ext cx="857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3800" y="410040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1114560" y="4789440"/>
                <a:ext cx="325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882720" y="3414600"/>
                <a:ext cx="7351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1047600" y="5446800"/>
                <a:ext cx="447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948040" y="2832120"/>
                <a:ext cx="1703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1922400" y="2793960"/>
                <a:ext cx="8571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6437160" y="404496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139840" y="3433680"/>
                <a:ext cx="40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8" name=""/>
          <p:cNvSpPr/>
          <p:nvPr/>
        </p:nvSpPr>
        <p:spPr>
          <a:xfrm>
            <a:off x="6689880" y="350532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2104920" y="4122720"/>
                <a:ext cx="449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0" name=""/>
          <p:cNvSpPr/>
          <p:nvPr/>
        </p:nvSpPr>
        <p:spPr>
          <a:xfrm>
            <a:off x="6962760" y="2989440"/>
            <a:ext cx="16020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2090880" y="4818240"/>
                <a:ext cx="4492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7250040" y="2428920"/>
            <a:ext cx="160560" cy="160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2109960" y="5467320"/>
                <a:ext cx="407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2959200" y="3500280"/>
                <a:ext cx="161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3098880" y="4157640"/>
                <a:ext cx="1374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3108240" y="4840200"/>
                <a:ext cx="13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7" name=""/>
              <p:cNvSpPr txBox="1"/>
              <p:nvPr/>
            </p:nvSpPr>
            <p:spPr>
              <a:xfrm>
                <a:off x="3071880" y="5508720"/>
                <a:ext cx="13748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8" name=""/>
          <p:cNvSpPr/>
          <p:nvPr/>
        </p:nvSpPr>
        <p:spPr>
          <a:xfrm flipV="1">
            <a:off x="5398920" y="1810800"/>
            <a:ext cx="2295720" cy="4443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5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elicop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3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0" y="142560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29, 13 – 4 #1 –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124/1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3-08T17:38:07Z</dcterms:modified>
  <cp:revision>121</cp:revision>
  <dc:subject/>
  <dc:title>Slide 1</dc:title>
</cp:coreProperties>
</file>